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2682538" cy="71310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 Light"/>
              </a:rPr>
              <a:t>Click to move the slide</a:t>
            </a: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AF1F6A-E213-4B51-B982-ADC5C1976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0BBB3B-EDE8-4CE9-BDF1-98A64327CF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355F6E-9E63-4854-988F-2B95435E329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0204ED-00E5-4F9E-97E9-3C3C674C47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DAF999-CB11-498F-B496-3968F16EDCB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lnSpc>
                <a:spcPct val="107000"/>
              </a:lnSpc>
              <a:spcBef>
                <a:spcPts val="451"/>
              </a:spcBef>
              <a:spcAft>
                <a:spcPts val="799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Calibri"/>
                <a:ea typeface="Calibri"/>
              </a:rPr>
              <a:t>Natrijuum monofluorforfor sasatvni je deo paste za z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7000"/>
              </a:lnSpc>
              <a:spcBef>
                <a:spcPts val="451"/>
              </a:spcBef>
              <a:spcAft>
                <a:spcPts val="799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Calibri"/>
                <a:ea typeface="Calibri"/>
              </a:rPr>
              <a:t>Amin fluorid – povećava salivaciju, smanjuje kolonizaciju bakteri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F670A4-7281-41D8-A983-9786DB632BE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74245D-72C9-42E8-9AF7-99E724C438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AD58E0-944C-4BA0-9DF8-942A71A8288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4334B0-AA43-4431-969C-AF07CC12591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E86559-140E-40E7-A388-644DA5716C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ABE19C-B50E-455C-BB0A-D84238D9E2A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A43B-A06A-4073-AB92-A35FFF8B8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1093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71200" y="4262760"/>
            <a:ext cx="1093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9705-AB83-4C5F-A5D2-1085A7C58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200" y="426276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475680" y="426276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FC28-06B7-4DD2-959C-E9A84C220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69480" y="189864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267760" y="189864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71200" y="426276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69480" y="426276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267760" y="426276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5FE1-C1B3-4722-BEA1-D984C4A10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71200" y="1898640"/>
            <a:ext cx="10937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37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28D7-6DDA-47D7-86EC-0A7713AB8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1093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829F-3433-4881-9D6F-8C8F0A7AF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E211-2237-473D-B183-F8FAFB716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C88C-E77F-4322-8862-A60C79350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71200" y="379440"/>
            <a:ext cx="1093788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37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19B0-C499-4CA2-A2F2-1634CD0D3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71200" y="426276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DDC9-2632-44BD-ABEF-2E102D09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475680" y="426276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F52B-FD14-498A-AEC6-3520DA91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71200" y="4262760"/>
            <a:ext cx="1093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B6E1-DFC0-47EC-91DB-CCD6A73A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71200" y="1898640"/>
            <a:ext cx="1093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118728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66356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213840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213840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213840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71560" y="6610320"/>
            <a:ext cx="2852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00120" y="6610320"/>
            <a:ext cx="42800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956800" y="6610320"/>
            <a:ext cx="2852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96CEBA-956E-421A-B00A-943C6201849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739800" y="3133800"/>
            <a:ext cx="9713880" cy="19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9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800" spc="-1" strike="noStrike">
                <a:solidFill>
                  <a:srgbClr val="ffffff"/>
                </a:solidFill>
                <a:latin typeface="Trebuchet MS"/>
              </a:rPr>
              <a:t>MINIMALNO INVAZIVNA KARIOLOGIJA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2340000" y="5479920"/>
            <a:ext cx="80010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37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100" spc="-1" strike="noStrike">
                <a:solidFill>
                  <a:srgbClr val="f9a12a"/>
                </a:solidFill>
                <a:latin typeface="Trebuchet MS"/>
              </a:rPr>
              <a:t>DOC. DR RA</a:t>
            </a:r>
            <a:r>
              <a:rPr b="1" lang="sr-Latn-RS" sz="3100" spc="-1" strike="noStrike">
                <a:solidFill>
                  <a:srgbClr val="f9a12a"/>
                </a:solidFill>
                <a:latin typeface="Trebuchet MS"/>
              </a:rPr>
              <a:t>Š</a:t>
            </a:r>
            <a:r>
              <a:rPr b="1" lang="sr-Latn-CS" sz="3100" spc="-1" strike="noStrike">
                <a:solidFill>
                  <a:srgbClr val="f9a12a"/>
                </a:solidFill>
                <a:latin typeface="Trebuchet MS"/>
              </a:rPr>
              <a:t>A </a:t>
            </a:r>
            <a:r>
              <a:rPr b="1" lang="en-US" sz="3100" spc="-1" strike="noStrike">
                <a:solidFill>
                  <a:srgbClr val="f9a12a"/>
                </a:solidFill>
                <a:latin typeface="Trebuchet MS"/>
              </a:rPr>
              <a:t>J. </a:t>
            </a:r>
            <a:r>
              <a:rPr b="1" lang="sr-Latn-CS" sz="3100" spc="-1" strike="noStrike">
                <a:solidFill>
                  <a:srgbClr val="f9a12a"/>
                </a:solidFill>
                <a:latin typeface="Trebuchet MS"/>
              </a:rPr>
              <a:t>MLADENOVIĆ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10683720" y="2957400"/>
            <a:ext cx="609840" cy="23241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1292400" y="317520"/>
            <a:ext cx="1066932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3100" spc="-1" strike="noStrike">
                <a:solidFill>
                  <a:srgbClr val="000000"/>
                </a:solidFill>
                <a:latin typeface="Trebuchet MS"/>
              </a:rPr>
              <a:t>FAKULTET MEDICINSKIH NAUKA</a:t>
            </a:r>
            <a:br>
              <a:rPr sz="3100"/>
            </a:br>
            <a:r>
              <a:rPr b="1" lang="sr-Latn-RS" sz="3100" spc="-1" strike="noStrike">
                <a:solidFill>
                  <a:srgbClr val="000000"/>
                </a:solidFill>
                <a:latin typeface="Trebuchet MS"/>
              </a:rPr>
              <a:t>UNIVERZITET U KRAGUJEVCU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00120" y="1504800"/>
            <a:ext cx="971712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3600" spc="-1" strike="noStrike">
                <a:solidFill>
                  <a:srgbClr val="f9a12a"/>
                </a:solidFill>
                <a:latin typeface="Trebuchet MS"/>
              </a:rPr>
              <a:t>PREVENTIVNA</a:t>
            </a:r>
            <a:r>
              <a:rPr b="1" lang="en-US" sz="3600" spc="-1" strike="noStrike">
                <a:solidFill>
                  <a:srgbClr val="f9a12a"/>
                </a:solidFill>
                <a:latin typeface="Trebuchet MS"/>
              </a:rPr>
              <a:t> STOMATOLOGIJ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340000" y="6165720"/>
            <a:ext cx="80010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2600" spc="-1" strike="noStrike">
                <a:solidFill>
                  <a:srgbClr val="000000"/>
                </a:solidFill>
                <a:latin typeface="Trebuchet MS"/>
              </a:rPr>
              <a:t>MMXXII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Picture 11" descr=""/>
          <p:cNvPicPr/>
          <p:nvPr/>
        </p:nvPicPr>
        <p:blipFill>
          <a:blip r:embed="rId2"/>
          <a:stretch/>
        </p:blipFill>
        <p:spPr>
          <a:xfrm>
            <a:off x="1539720" y="1814400"/>
            <a:ext cx="1219320" cy="10033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: Rounded Corners 8"/>
          <p:cNvSpPr/>
          <p:nvPr/>
        </p:nvSpPr>
        <p:spPr>
          <a:xfrm>
            <a:off x="10683720" y="138240"/>
            <a:ext cx="1219320" cy="990360"/>
          </a:xfrm>
          <a:prstGeom prst="roundRect">
            <a:avLst>
              <a:gd name="adj" fmla="val 16667"/>
            </a:avLst>
          </a:prstGeom>
          <a:solidFill>
            <a:srgbClr val="f45e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5400" spc="-1" strike="noStrike">
                <a:solidFill>
                  <a:srgbClr val="000000"/>
                </a:solidFill>
                <a:latin typeface="Trebuchet MS"/>
              </a:rPr>
              <a:t>08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0800" y="632880"/>
            <a:ext cx="10287000" cy="11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800" spc="-1" strike="noStrike">
                <a:solidFill>
                  <a:srgbClr val="ffffff"/>
                </a:solidFill>
                <a:latin typeface="Trebuchet MS"/>
              </a:rPr>
              <a:t>SAVREMENE METODE</a:t>
            </a:r>
            <a:endParaRPr b="0" lang="en-US" sz="3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197000" y="2088720"/>
            <a:ext cx="103824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8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100" spc="-1" strike="noStrike">
                <a:solidFill>
                  <a:srgbClr val="f9a12a"/>
                </a:solidFill>
                <a:latin typeface="Trebuchet MS"/>
              </a:rPr>
              <a:t>VAZDUŠNA ABRAZIJA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8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100" spc="-1" strike="noStrike">
                <a:solidFill>
                  <a:srgbClr val="f9a12a"/>
                </a:solidFill>
                <a:latin typeface="Trebuchet MS"/>
              </a:rPr>
              <a:t>PRIMENA LASERA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0800" y="557280"/>
            <a:ext cx="1028700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4500" spc="-1" strike="noStrike">
                <a:solidFill>
                  <a:srgbClr val="ffffff"/>
                </a:solidFill>
                <a:latin typeface="Trebuchet MS"/>
              </a:rPr>
              <a:t>KRD</a:t>
            </a: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196640" y="1890360"/>
            <a:ext cx="102884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4000" indent="-234000">
              <a:lnSpc>
                <a:spcPct val="80000"/>
              </a:lnSpc>
              <a:spcBef>
                <a:spcPts val="2100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800" spc="-1" strike="noStrike">
                <a:solidFill>
                  <a:srgbClr val="f9a12a"/>
                </a:solidFill>
                <a:latin typeface="Trebuchet MS"/>
              </a:rPr>
              <a:t>Karakterističan za najmladji uzrast (dojenčad i mala deca)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4000" indent="-234000">
              <a:lnSpc>
                <a:spcPct val="80000"/>
              </a:lnSpc>
              <a:spcBef>
                <a:spcPts val="2100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800" spc="-1" strike="noStrike">
                <a:solidFill>
                  <a:srgbClr val="f9a12a"/>
                </a:solidFill>
                <a:latin typeface="Trebuchet MS"/>
              </a:rPr>
              <a:t>Karijes ranog detinjstva - KRD </a:t>
            </a:r>
            <a:r>
              <a:rPr b="1" i="1" lang="sr-Latn-RS" sz="2800" spc="-1" strike="noStrike">
                <a:solidFill>
                  <a:srgbClr val="f9a12a"/>
                </a:solidFill>
                <a:latin typeface="Trebuchet MS"/>
              </a:rPr>
              <a:t>(Early Childhood Caries - ECC)</a:t>
            </a:r>
            <a:r>
              <a:rPr b="1" lang="sr-Latn-RS" sz="2800" spc="-1" strike="noStrike">
                <a:solidFill>
                  <a:srgbClr val="f9a12a"/>
                </a:solidFill>
                <a:latin typeface="Trebuchet MS"/>
              </a:rPr>
              <a:t> je pojam koji se koristi da bi verodostojno opisao pojavu svih karioznih promena, u primarnoj, mlečnoj denticiji, kada je karijes prisutan maker i na jednom zubu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4000" indent="-234000">
              <a:lnSpc>
                <a:spcPct val="80000"/>
              </a:lnSpc>
              <a:spcBef>
                <a:spcPts val="2100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800" spc="-1" strike="noStrike">
                <a:solidFill>
                  <a:srgbClr val="f9a12a"/>
                </a:solidFill>
                <a:latin typeface="Trebuchet MS"/>
              </a:rPr>
              <a:t>Ovo oboljenje postaje jako ozbiljan zdravstveni problem kako stomatološki tako i opšte medicinski i nikako se ne sme posmatrati izolovano samo kao stomatološki, već kao problem koji ostavlja posledice na ukupan razvoj malog deteta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196640" y="2290320"/>
            <a:ext cx="10288440" cy="47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80000"/>
              </a:lnSpc>
              <a:spcBef>
                <a:spcPts val="1749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Mladi stalni zubi su tek iznikli zubi kod kojih nije došlo do fiziološkog apikalnog zatvaranja (apeksogeneza)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80000"/>
              </a:lnSpc>
              <a:spcBef>
                <a:spcPts val="1749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Razvojni zubi su od izuzetnog značaja za razvoj periodoncijuma i alveolarne kosti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80000"/>
              </a:lnSpc>
              <a:spcBef>
                <a:spcPts val="1749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Imaju veći potencijal za oporavak pulpnog tkiva i nastavak apeksogenez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80000"/>
              </a:lnSpc>
              <a:spcBef>
                <a:spcPts val="1749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Replantacija ovih zuba ima visok procenat uspešnosti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80000"/>
              </a:lnSpc>
              <a:spcBef>
                <a:spcPts val="1749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80000"/>
              </a:lnSpc>
              <a:spcBef>
                <a:spcPts val="1749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80000"/>
              </a:lnSpc>
              <a:spcBef>
                <a:spcPts val="1749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4300" spc="-1" strike="noStrike">
                <a:solidFill>
                  <a:srgbClr val="ffffff"/>
                </a:solidFill>
                <a:latin typeface="Trebuchet MS"/>
              </a:rPr>
              <a:t>MLADI STALNI ZUBI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4300" spc="-1" strike="noStrike">
                <a:solidFill>
                  <a:srgbClr val="ffffff"/>
                </a:solidFill>
                <a:latin typeface="Trebuchet MS"/>
              </a:rPr>
              <a:t>INTERCEPTIVNI POSTUPCI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196640" y="2109960"/>
            <a:ext cx="1028844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80000"/>
              </a:lnSpc>
              <a:spcBef>
                <a:spcPts val="2001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200" spc="-1" strike="noStrike">
                <a:solidFill>
                  <a:srgbClr val="f9a12a"/>
                </a:solidFill>
                <a:latin typeface="Trebuchet MS"/>
              </a:rPr>
              <a:t>Fluorizacij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80000"/>
              </a:lnSpc>
              <a:spcBef>
                <a:spcPts val="2001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200" spc="-1" strike="noStrike">
                <a:solidFill>
                  <a:srgbClr val="f9a12a"/>
                </a:solidFill>
                <a:latin typeface="Trebuchet MS"/>
              </a:rPr>
              <a:t>Zalivanje fisura (terapijsko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80000"/>
              </a:lnSpc>
              <a:spcBef>
                <a:spcPts val="2001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200" spc="-1" strike="noStrike">
                <a:solidFill>
                  <a:srgbClr val="f9a12a"/>
                </a:solidFill>
                <a:latin typeface="Trebuchet MS"/>
              </a:rPr>
              <a:t>Primena GJC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80000"/>
              </a:lnSpc>
              <a:spcBef>
                <a:spcPts val="2001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200" spc="-1" strike="noStrike">
                <a:solidFill>
                  <a:srgbClr val="f9a12a"/>
                </a:solidFill>
                <a:latin typeface="Trebuchet MS"/>
              </a:rPr>
              <a:t>Preparati kalcijum fosfat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4300" spc="-1" strike="noStrike">
                <a:solidFill>
                  <a:srgbClr val="ffffff"/>
                </a:solidFill>
                <a:latin typeface="Trebuchet MS"/>
              </a:rPr>
              <a:t>FLUORIZACIJ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196640" y="2109960"/>
            <a:ext cx="1028844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80000"/>
              </a:lnSpc>
              <a:spcBef>
                <a:spcPts val="1500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Lokalnom aplikacijom fluorida na gleđi se stvara depo kalcijum fluorida koji se aktivira u trenutku pada pH ispod kritične vrednosti za početak demineralizacij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80000"/>
              </a:lnSpc>
              <a:spcBef>
                <a:spcPts val="1500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Inhibiraju enzime koji su uključeni u produkciji, transportu i skladištenje glukoz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80000"/>
              </a:lnSpc>
              <a:spcBef>
                <a:spcPts val="1500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Deluju na smanjenje viskoziteta pljuvačke, čime se smanjuje akumulacija plak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80000"/>
              </a:lnSpc>
              <a:spcBef>
                <a:spcPts val="1500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Organsk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80000"/>
              </a:lnSpc>
              <a:spcBef>
                <a:spcPts val="1188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1900" spc="-1" strike="noStrike">
                <a:solidFill>
                  <a:srgbClr val="f8f8f8"/>
                </a:solidFill>
                <a:latin typeface="Trebuchet MS"/>
              </a:rPr>
              <a:t>Natrijum fluorid, natrijum monofluorofosfat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80000"/>
              </a:lnSpc>
              <a:spcBef>
                <a:spcPts val="1500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Neorgansk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80000"/>
              </a:lnSpc>
              <a:spcBef>
                <a:spcPts val="1188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1900" spc="-1" strike="noStrike">
                <a:solidFill>
                  <a:srgbClr val="f8f8f8"/>
                </a:solidFill>
                <a:latin typeface="Trebuchet MS"/>
              </a:rPr>
              <a:t>Amin fluorid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4300" spc="-1" strike="noStrike">
                <a:solidFill>
                  <a:srgbClr val="ffffff"/>
                </a:solidFill>
                <a:latin typeface="Trebuchet MS"/>
              </a:rPr>
              <a:t>CPP-ACP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196640" y="2109960"/>
            <a:ext cx="1028844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80000"/>
              </a:lnSpc>
              <a:spcBef>
                <a:spcPts val="1500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Mehanizam delovanja kompleksa uključuje: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80000"/>
              </a:lnSpc>
              <a:spcBef>
                <a:spcPts val="1188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1900" spc="-1" strike="noStrike">
                <a:solidFill>
                  <a:srgbClr val="ffffff"/>
                </a:solidFill>
                <a:latin typeface="Trebuchet MS"/>
              </a:rPr>
              <a:t>pufersko delovanje CPP (kalcijumovi i fosfatni joni se oslobađaju tek u kisolom pH manje od 5,5 kada se i ugrađuju u gleđ), 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80000"/>
              </a:lnSpc>
              <a:spcBef>
                <a:spcPts val="1188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1900" spc="-1" strike="noStrike">
                <a:solidFill>
                  <a:srgbClr val="ffffff"/>
                </a:solidFill>
                <a:latin typeface="Trebuchet MS"/>
              </a:rPr>
              <a:t>inhibicija adhezije streptokoka na zubnu površinu i sinergično delovanje s jonima fluora. 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80000"/>
              </a:lnSpc>
              <a:spcBef>
                <a:spcPts val="1188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34800" y="557280"/>
            <a:ext cx="1028700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500" spc="-1" strike="noStrike">
                <a:solidFill>
                  <a:srgbClr val="ffffff"/>
                </a:solidFill>
                <a:latin typeface="Trebuchet MS"/>
              </a:rPr>
              <a:t>PREVENTIVNO PLOMBIRANJE</a:t>
            </a: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196640" y="1890360"/>
            <a:ext cx="102884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80000"/>
              </a:lnSpc>
              <a:spcBef>
                <a:spcPts val="2401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3200" spc="-1" strike="noStrike">
                <a:solidFill>
                  <a:srgbClr val="f9a12a"/>
                </a:solidFill>
                <a:latin typeface="Trebuchet MS"/>
              </a:rPr>
              <a:t>Tehnika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Primena analgezije prema potrebi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Uklanjanje karijesa bez zakošavanja ivic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agrizanje kiselinom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Restauracija kompozitom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anošenje zalivača preko restauracije i okolne intaktne gleđi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Kontrola sondom i artikulacionim papirom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Lokaln</a:t>
            </a:r>
            <a:r>
              <a:rPr b="1" lang="sr-Latn-RS" sz="1600" spc="-1" strike="noStrike">
                <a:solidFill>
                  <a:srgbClr val="ffffff"/>
                </a:solidFill>
                <a:latin typeface="Trebuchet MS"/>
              </a:rPr>
              <a:t>a</a:t>
            </a: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 aplikaci</a:t>
            </a:r>
            <a:r>
              <a:rPr b="1" lang="sr-Latn-CS" sz="1600" spc="-1" strike="noStrike">
                <a:solidFill>
                  <a:srgbClr val="ffffff"/>
                </a:solidFill>
                <a:latin typeface="Trebuchet MS"/>
              </a:rPr>
              <a:t>j</a:t>
            </a: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a F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10760" y="557280"/>
            <a:ext cx="1028700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500" spc="-1" strike="noStrike">
                <a:solidFill>
                  <a:srgbClr val="ffffff"/>
                </a:solidFill>
                <a:latin typeface="Trebuchet MS"/>
              </a:rPr>
              <a:t>MIR NA OKLUZALNOJ POVRŠINI</a:t>
            </a: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196640" y="1814400"/>
            <a:ext cx="1066788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100" spc="-1" strike="noStrike">
                <a:solidFill>
                  <a:srgbClr val="f9a12a"/>
                </a:solidFill>
                <a:latin typeface="Trebuchet MS"/>
              </a:rPr>
              <a:t>TIP A</a:t>
            </a:r>
            <a:r>
              <a:rPr b="1" lang="sr-Latn-CS" sz="2300" spc="-1" strike="noStrike">
                <a:solidFill>
                  <a:srgbClr val="f9a12a"/>
                </a:solidFill>
                <a:latin typeface="Trebuchet MS"/>
              </a:rPr>
              <a:t> u gleđi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100" spc="-1" strike="noStrike">
                <a:solidFill>
                  <a:srgbClr val="f9a12a"/>
                </a:solidFill>
                <a:latin typeface="Trebuchet MS"/>
              </a:rPr>
              <a:t>TIP B</a:t>
            </a:r>
            <a:r>
              <a:rPr b="1" lang="sr-Latn-CS" sz="2300" spc="-1" strike="noStrike">
                <a:solidFill>
                  <a:srgbClr val="f9a12a"/>
                </a:solidFill>
                <a:latin typeface="Trebuchet MS"/>
              </a:rPr>
              <a:t> kod početne, male i ograničene lezije u dentinu 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100" spc="-1" strike="noStrike">
                <a:solidFill>
                  <a:srgbClr val="f9a12a"/>
                </a:solidFill>
                <a:latin typeface="Trebuchet MS"/>
              </a:rPr>
              <a:t>TIP C</a:t>
            </a:r>
            <a:r>
              <a:rPr b="1" lang="sr-Latn-CS" sz="2300" spc="-1" strike="noStrike">
                <a:solidFill>
                  <a:srgbClr val="f9a12a"/>
                </a:solidFill>
                <a:latin typeface="Trebuchet MS"/>
              </a:rPr>
              <a:t> lezija u dentinu koja zahteva podlogu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54120" y="557280"/>
            <a:ext cx="914400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500" spc="-1" strike="noStrike">
                <a:solidFill>
                  <a:srgbClr val="ffffff"/>
                </a:solidFill>
                <a:latin typeface="Trebuchet MS"/>
              </a:rPr>
              <a:t>MIR APROKSIMALNIH POVRŠINI</a:t>
            </a: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196640" y="1890360"/>
            <a:ext cx="43052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8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300" spc="-1" strike="noStrike">
                <a:solidFill>
                  <a:srgbClr val="f9a12a"/>
                </a:solidFill>
                <a:latin typeface="Trebuchet MS"/>
              </a:rPr>
              <a:t>Kada ja karijesna lezija na više od 2,5mm udaljenosti od marginalnog brida, pristupa se iz pravca okluzalne površine.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8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300" spc="-1" strike="noStrike">
                <a:solidFill>
                  <a:srgbClr val="f9a12a"/>
                </a:solidFill>
                <a:latin typeface="Trebuchet MS"/>
              </a:rPr>
              <a:t>Ukoliko je aproksimalna gleđ očuvana onda se radi o parcijalnoj tunel preparaciji.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8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300" spc="-1" strike="noStrike">
                <a:solidFill>
                  <a:srgbClr val="f9a12a"/>
                </a:solidFill>
                <a:latin typeface="Trebuchet MS"/>
              </a:rPr>
              <a:t>Direktan pristup se radi u slučaju da istovremeno na susednom zubu nalazi karijesna lezija  koju uključujemo. 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8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8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0800" y="557280"/>
            <a:ext cx="1028700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200" spc="-1" strike="noStrike">
                <a:solidFill>
                  <a:srgbClr val="ffffff"/>
                </a:solidFill>
                <a:latin typeface="Trebuchet MS"/>
              </a:rPr>
              <a:t>ALTERNATIVNE METODE</a:t>
            </a:r>
            <a:endParaRPr b="0" lang="en-US" sz="4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196640" y="2025360"/>
            <a:ext cx="102884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300" spc="-1" strike="noStrike">
                <a:solidFill>
                  <a:srgbClr val="f9a12a"/>
                </a:solidFill>
                <a:latin typeface="Trebuchet MS"/>
              </a:rPr>
              <a:t>ART – Atraumatski Restaurativni Tretman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300" spc="-1" strike="noStrike">
                <a:solidFill>
                  <a:srgbClr val="f9a12a"/>
                </a:solidFill>
                <a:latin typeface="Trebuchet MS"/>
              </a:rPr>
              <a:t>Hemijska sredstva za uklanjanje karijesa - Carisolv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300" spc="-1" strike="noStrike">
                <a:solidFill>
                  <a:srgbClr val="f9a12a"/>
                </a:solidFill>
                <a:latin typeface="Trebuchet MS"/>
              </a:rPr>
              <a:t>Mikroabrazija gleđi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300" spc="-1" strike="noStrike">
                <a:solidFill>
                  <a:srgbClr val="f9a12a"/>
                </a:solidFill>
                <a:latin typeface="Trebuchet MS"/>
              </a:rPr>
              <a:t>Sredstva za infiltraciju početne karijesne lezije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1T11:47:34Z</dcterms:created>
  <dc:creator>Rale</dc:creator>
  <dc:description/>
  <dc:language>en-US</dc:language>
  <cp:lastModifiedBy>kompjuterash</cp:lastModifiedBy>
  <dcterms:modified xsi:type="dcterms:W3CDTF">2023-02-17T17:25:26Z</dcterms:modified>
  <cp:revision>507</cp:revision>
  <dc:subject/>
  <dc:title>RTG U DEČJOJ STOMATOLOGIJI</dc:title>
</cp:coreProperties>
</file>